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5AC-5471-4EF5-8310-2D3A0A3E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822-AF33-424B-AE3C-E248D24A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6B878-49AB-4EC0-A68E-E0AE250C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D266D-D6AC-4C83-B308-4B67B071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CB153-F56D-4467-9BFC-1CD25CBF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83CBF-25B5-47AA-BD55-ADF5EC04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DF672-50BE-419E-AC0C-3A9B02AD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339A5-FC29-4B08-94CB-2957A8D4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9DADA-3A11-42C5-B822-B34C1E96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34B1A-26CC-4E99-9A0C-1FE2CB30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6191F-731F-4844-984B-3124366B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D0368-60EB-49E8-AA24-DAA0C12A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E70-E1E7-41BF-872D-CA5498F6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F252F-C53A-40A6-813A-1D3282B9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20F5A-5DAF-437D-9573-8BDF2C95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28072-BC5D-489B-8DCF-5274C969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56406-D520-4DB1-930D-94AA7F97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EAFBA-F423-4A6D-8243-224914E7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89013-9E4A-4A38-ACA2-25D552DF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5CFAE-AD1A-4CC0-9E2C-68514074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AB101-7C96-4825-80B3-D5F33FAE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4140D-E5F4-4AB6-852F-30CEB520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B4BF0-997B-4B60-B73B-1BCD3035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1B7-F2D4-4607-A6FE-F412DDC7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39FB0-A2CC-4D01-BF2B-EFD6D0E0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90E4A-F52A-41E6-AF60-05C98901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32F0C-24CE-4A9C-9CD9-DA2F3809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14AFA-7F12-4F10-ACAA-9D09F244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A3F2A-4F57-4DD8-B866-2CE19969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0F9D1-92C6-46F2-8A40-DD6FA143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A1429-75B5-47CF-89E1-A9AE48A1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069BD-D3AF-4173-B1BB-7C1ED3D6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E4A2D-52B1-4005-957A-EBE00EB0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D9BED-775D-430E-B5FB-DF443864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008B-5B2C-409B-9982-B9174DB1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228DD-E56C-4AC1-9704-07E483CE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1A092-47F9-4B3C-83DA-62B19B6E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19C22-F937-4C6D-BCFD-B0C24822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811A3-7504-42C2-8022-14332762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896B2-694F-46A6-B49E-CD5B827A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9F494-624E-4A5D-8D6A-DDF8247F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416F0-6A62-458D-B3E9-71D8B865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F8C13-34C6-4300-B3CF-F980D5C3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102A5-C478-447B-AE9A-FFF39376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21EE9-3F5C-4831-A010-3F76B85B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B7C0-8B7E-4A8B-8235-853B23D7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82E61-3E7B-46C3-989F-2165C1E6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443CF-A113-4B80-A6AA-E21C577D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9FC16-BE05-4CDA-9703-A7572CC8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BEEE3-5693-44A7-9D4B-8DF476C4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9E8E4-A888-47F4-9ED0-A7848E0F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73D7F-03B4-41C2-B49D-F72F7615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0A994-9491-4DB2-B45C-C7F2F30A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A71A4-0D07-4BE3-8AB7-FA45E83C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5E154-BBA8-4E9B-9600-62D873BE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97DA5-A87E-4EFB-BA35-91EC3A26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D1A5-D632-4B3D-A353-F902B6AA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AA35B-BA5A-410C-8C4B-5D038426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630E0-613A-4F4C-9F3F-66959E88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0A50D-3261-4C77-864C-8BD16584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B15BF-2AC0-49B1-8631-0E1470D0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79045-C1B1-4368-A71C-6CDA67D4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BBD9C-FBDA-497B-9C96-A1CBB832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1E0EB-4793-431F-9A74-85D99E30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E55B3-9ABD-4879-8AF3-6F09C30B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96BBE-AA46-4DCF-A7B2-990C658E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7D6F8-12F5-4317-8E76-7DD00E8C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0BB8-5985-41FA-8599-8C3EA759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261EE-462D-4F52-810C-07C87CAA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971D4-49FB-4332-93D2-1FA7EA2E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0B364-BAE9-4258-8D40-3D6BAAB9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3EE76-7596-4EBB-B329-DC9107E6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6A6E7-7CCE-4526-A76E-3F533B48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C6B0C5-509D-47C7-AB55-ED0EB65A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DF3A4-81AE-463E-AF96-BBEE1E8A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36670-A4EE-4741-AC33-000872E0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8FD33-F5FD-4D88-BDBD-4D5A6CEC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388C98-F944-40B3-A9FE-1FD374A7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6251-212D-4BC7-9B28-A806A5E7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FACEFA-0EA0-481E-B3CE-F4B8A6F2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95DC6-3E10-4FA7-B4B3-0F0772BC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4F2BE9-CCEF-4FEA-AD05-DC766F07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CACEE-7ECE-45B7-A787-2505331F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54AF2-70F0-4519-B2E4-8D68CF4D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52FF0-AA16-42E8-9AF5-754EABBB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B5C01C-6639-400E-A531-72051F5E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1F00E7-C74A-4BBF-BC1A-4547951B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45D643-5C37-482F-A1FF-CB0A5AB8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349FE-6F14-46F8-8349-061A5425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1767-4641-44B9-A21E-70FED48C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29D47-1CA8-464C-BF2D-727C1284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078842-8918-4757-A627-F004AC7A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4F8892-5991-4E69-9B7E-B88994C9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BC454-5997-4AF0-8ECF-7CAC1179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D6E8C-2144-4958-A2AD-C9C045B5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F47FD-F16B-4E85-B41D-5E483F0D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64A4C-24B2-4C40-A140-E36622DF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0DD625-5F99-435C-AD00-6A56270B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57910-25DE-441C-B61D-F4DB9B5A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B0C01B-7858-430F-9656-B3A6C80B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3584-4CB0-4325-9291-AFCDF618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78D34-B5F7-4B9F-8941-D643B69D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5CC42-FF9E-4533-AD74-E84AAAC4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D03E6-4967-4ECB-8175-B04F9A0C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33F2F-CAF8-4519-B5CE-034E4D64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3F1A5F-8612-4BE2-9A40-2250AED4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D892CF-C0C7-488C-A9E5-557724BA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FBEC0-FF6F-4466-892D-46E3C3ED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B3DF5D-1283-4D13-A706-B9C6A03B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523175-B8DC-43F3-90C0-405A5125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35168-3A45-4F62-8E98-7E966D0C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4F5-830D-4D03-BE99-52FEE123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B1E8-75E1-4A63-8480-604AEB5C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093559-FFFF-498D-8034-D93666B3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71A188-1495-4B7C-905B-3812D868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039A2E-DC28-46D8-91C5-CF467765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1BFAE7-4C3A-4F2A-89DD-447E63EE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E5B0CF-EABF-4222-BBDE-F1F1B974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D19C80-F4D6-4E5C-B700-D0CBD21F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DEDAA09-A064-452A-874A-6A67EEBF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105A3A-F47E-4573-88A6-606DB8EE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E343F75-A7FA-4A7C-890A-D6A2327E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89183E-5852-4153-871A-EAF6F8D4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6884-4125-405C-910E-882C9ADA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AB145D-130D-461F-BC88-7FAC98E0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1F1CD60-26DB-4056-86CE-C7EF439B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0B6690-ED2D-411D-A508-977511B1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7685EA4-120F-4153-820F-F3D0A5F6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2F3B7C6-260B-41DB-AC95-5A007EE8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6A84D51-9CBC-45C7-9A9E-2BADE657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D378D78-FEF4-484C-B3E6-DEB0DEA9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905B-0D75-4E86-9F1F-7FF67311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6835-650B-43C1-AA1F-84653C24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DD19-10EA-4F97-9592-1239BAA4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F4B10-4900-4C94-AD8E-FB6B63F4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615BF-9AF1-4B5E-9A72-D7CE6F50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C979-6542-402C-B9F4-D9F17C3A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D921-C2FC-442F-BFBA-BA9FE898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AF2ED-E6CF-4FBF-96F3-6256C5B4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3BC-D87D-4389-9589-B0984FDA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D62A0-8B3B-448F-AE1C-20BD6EFB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218C2-4E24-4194-B2DF-21596707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5A7E-860B-426B-A47B-7D1FE28D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BFE03-E949-4801-80AA-90C790C3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F23F8-F602-45E3-8662-7824B6CD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E8DE-0581-4353-B275-917D2B00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C0AC-4B89-4A31-9DBF-C7781DA1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912F5-DFFE-4ADA-9147-C90F8B94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1B9A7-2A99-49F2-9A14-7085D0AC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1955E-1FD4-4B26-8C53-F8097773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757-0127-4FF8-A0E2-9AAF4A80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8C3CA-4BC4-4772-B43F-99CF8E1D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56591-3CFD-453B-B228-8B93D8DE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F6D6F-C2AD-4C63-9FAB-CEC03B58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445F0-829A-4C03-9724-3834E580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D7DF2-6ED8-4561-A989-D8163B39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923DF-8FD6-4EF4-9E10-4AC9F13F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142AA-EAE0-44F9-B2DA-9C13EC4E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257C-5EEE-4961-B233-D009DD16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63900-39B4-49A1-B268-9BD84F4B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364F3-BD70-4F1A-B7EF-CF6CCBD3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6C9-B912-4975-A456-41552DE9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1C95A-78AF-4D6F-ADCE-C9DF943B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614D1-A5B3-45C3-8D9A-95D2EF94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5CD56-A202-4292-B29B-D87A220C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F4584-D1B2-45EE-A1E6-FC22FF4D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F1999-2CBD-4F60-BE10-C3C436AD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50ED7-412E-48BF-8634-D195D6FF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9F284-78B5-4615-8723-D16037D9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1AFB3-8E59-43DB-A2D3-79D05CCA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BAC9B-9C88-48C5-B7CF-E15AEEA5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A5A45-98EA-4C75-8B7C-85FC4E12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B9D-035B-4AE6-8040-0DEDBD0D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C0C04-CCB0-4713-A4D2-03544DCA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66A2D-DFB1-43FF-AD20-92756747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F4A23-C7B4-49EB-9263-2094DFD6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29B9B-108B-4C41-B268-4B019253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ADA60-C912-4C8A-B007-89915730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AEDD9-BE8E-48B1-8D42-2679C1BB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6EDB3-B0E8-48B3-BA4B-48335EBF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4B4E5-5A63-403A-BD79-A1686445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9EF90-2CE5-429D-AC2B-E355FCFF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C4DB7-D1EC-4FA9-8BDA-2AE86811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685-7EA9-4FE2-8ED2-F740302F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E5435-663E-4F6B-A341-463EF769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3E3C7-F3DC-4E18-B65D-3AD05194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04306-F751-4D3E-87C9-6FA1EFC2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CDFC2-5C94-46DF-B9E9-DB201642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9BA25-4AF0-430C-8FED-F5B2CF58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A0338-B73B-4F85-BD5A-5C3959AC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C87F4-382B-48B9-8E68-A0029F85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6D667-48A0-4D18-B49D-28676164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23068-0214-4990-80B3-6516456F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41CA3-7433-4B59-BA86-957F37C0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B33-12FC-4595-9D75-900F4037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DB064-0C0D-49AC-B9CF-6387C7CD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363FE-E57D-445B-9427-C97FCB44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F7621-E13E-4F84-BFB6-40811623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6810B-8690-4086-B32B-3C777594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9ADC7-708C-4527-A94E-1C82DD1A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9343F-5D4B-42E0-AD9F-BAACE94E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FF50B-790D-4FBE-BDE7-12706EE7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9E9E0-D40B-4238-B89D-1557965C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6EA72-608A-4779-ABC6-E4F12DAB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C5C87-90B0-4C05-951F-C3EB7C4C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64F-7D45-41E5-9B66-BFF48DCD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20EE8-451C-4A6D-81E9-10DBAF54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A637A-5B8E-4410-AA7F-51B3C9BD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C367D-D81F-4470-ACBA-C8B79709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C98C9-8101-4284-B2C6-C806176D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8EB45-7DBE-4393-9CFB-73F1065C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F3975-D65E-4D96-A523-AC6DD2D1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77AD8-858C-4645-9158-6B234270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AA1CE-F75C-4831-A52C-D8E0F797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F7FAC-B9C4-4434-838E-E7E4410D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04F01-8B02-4DE9-AD49-FFE0297E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21CC-0DD3-47A4-9926-231FAECD027E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150F-95AA-4FD6-A140-B78C512AACC7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A530-3F45-4C6A-B0A6-263DB13ADFD7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CC22-8069-4B4E-8C89-B0C709A78490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6D19-FD68-4E1D-BF55-D7198F5E621C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7342-129A-436B-8C86-3B9F2B273562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04B7-5804-4543-8CF2-27095E2578B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CD26-FF2C-4C60-9452-F018CD7607DE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182D-8DE7-4CC8-80FF-A34388FC14EB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ftr" idx="5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sldNum" idx="5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779E-7963-43B1-8F36-011F2319AE06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dt" idx="5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2BFD-5940-463B-A219-58F55AA3FB08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192D-AAFF-4D04-8BC9-C9A4F8276322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E1C8-0E14-4A9D-B158-7C362E84C999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5702-AAFB-495E-8F50-41F214E0D30A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F2AE-E841-41CD-BB07-87A028D9D263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1379-073A-4D17-B505-19FEBD4F6D00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7B7D-B9DA-48C8-B687-551DCBC8F1DC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FD95-9FA4-49AD-95C8-13F112576AEB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895120" y="1676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Rectangle 5"/>
          <p:cNvSpPr/>
          <p:nvPr/>
        </p:nvSpPr>
        <p:spPr>
          <a:xfrm>
            <a:off x="609480" y="4419720"/>
            <a:ext cx="8534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ДЕЯТЕЛЬН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АЦ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ОКАЗАНИ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МОЩИ 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МБУЛАТОРН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УСЛОВ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5" name=""/>
          <p:cNvGraphicFramePr/>
          <p:nvPr/>
        </p:nvGraphicFramePr>
        <p:xfrm>
          <a:off x="152280" y="838080"/>
          <a:ext cx="8763120" cy="56152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697"/>
          <p:cNvSpPr/>
          <p:nvPr/>
        </p:nvSpPr>
        <p:spPr>
          <a:xfrm>
            <a:off x="4419720" y="2057400"/>
            <a:ext cx="4495680" cy="16891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3 – графа 4 = городские жители все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5 – графа 6 = городские жители де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!!!Всего не должно быть больше чем дети по всем строк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3 «активных»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пациента; динамика и сезонность заболеваний; возможность госпитализации и др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1" name="Rectangle 703"/>
          <p:cNvSpPr/>
          <p:nvPr/>
        </p:nvSpPr>
        <p:spPr>
          <a:xfrm>
            <a:off x="1676520" y="3276720"/>
            <a:ext cx="6324480" cy="25146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ограмме государственных гарант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посещение в отчетном году по поводу диспансерного наблюдения считается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тчетной форме №30 учитываем по установленному порядку: Все посещения по поводу диспансерного наблюдения указываются по поводу заболе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 txBox="1"/>
          <p:nvPr/>
        </p:nvSpPr>
        <p:spPr>
          <a:xfrm>
            <a:off x="304560" y="7621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Включаются предварительные, периодические, медицинские осмотры спортсменов, профилактические осмотры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7 «диспансеризаци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взрослого населения и диспансеризация детей-сирот (форма №131 и №030/Д/с/о- 13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8 «комплексный 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и внеплановые медицинские осмотры (осмотры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участников ВОВ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не плановой диспансеризации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9 «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из них в центрах здоровь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(в соответствии с формой №6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0 «паллиативная помощь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трока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«паллиативная помощь»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заполняется, если в организации организован кабинет (отделение) по оказанию паллиативной помощ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 данную строку включаются посещения врача кабинета противоболевой терап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1 «патронаж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2 «прочие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5 «врачебные бригад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Организовывается в зависимости от конкретных условий оказания первичной медико-санитарной помощи населению в целях обеспечения ее доступности могут формироваться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постоянно действующие медицинские бригады, 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оящие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из врача-терапевта участкового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фельдшеров, акушеров и медицинских сестер, с распределением между ними функциональных обязанностей по компетенции, исходя из установленных штатных нормативов, предназначенных для расчета количества должностей, предусмотренных для выполнения медицинской организацией возложенных на нее функц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6 «мобильные медицинские бригады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Мобильная медицинская бригада организуется в структуре медицинской организации (ее структурного подразделения), оказывающей первичную медико-санитарную помощь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для оказания первичной медико-санитарной помощью населения, в том числе жителей населенных пунктов с преимущественным проживанием лиц старше трудоспособного возраста либо расположенных на значительном удалении от медицинской организации и (или) имеющих плохую транспортную доступность с учетом климато-географических условий.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ав мобильной медицинской бригады формируется руководителем медицинской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 организации (ее структурного подразделения) из числа врачей и медицинских работников со средним медицинским образованием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исходя из цели ее формирования и возложенных задач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295280" y="3762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106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380880" y="800280"/>
          <a:ext cx="8382240" cy="140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64044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174"/>
          <p:cNvSpPr/>
          <p:nvPr/>
        </p:nvSpPr>
        <p:spPr>
          <a:xfrm>
            <a:off x="235080" y="2190600"/>
            <a:ext cx="8686800" cy="279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зависимости от цели обращения подразделяются 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по поводу заболеваний, травм, отравлений и некоторых друг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ледствий воздействия внешних причин (коды A00 - T98 МКБ-1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с профилактической целью (коды Z00 - Z99 МКБ-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, указанные в таблице 2106, должны быть меньше, чем данные указанные в таблице 2100 по строке 1 в соответствующих граф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ратность посещений в среднем по медицинским организациям составляет – на одно обращение 3-3,5 посещения (кроме специализированных ЛПУ, например: психиатрическая, фтизиопульмонологическая больницы и т.п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Овал 5"/>
          <p:cNvSpPr/>
          <p:nvPr/>
        </p:nvSpPr>
        <p:spPr>
          <a:xfrm>
            <a:off x="235080" y="5156280"/>
            <a:ext cx="8391240" cy="109224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bject 36"/>
          <p:cNvSpPr/>
          <p:nvPr/>
        </p:nvSpPr>
        <p:spPr>
          <a:xfrm>
            <a:off x="685800" y="5410080"/>
            <a:ext cx="225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 </a:t>
            </a:r>
            <a:r>
              <a:rPr b="1" lang="ru-RU" sz="21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bject 39"/>
          <p:cNvSpPr/>
          <p:nvPr/>
        </p:nvSpPr>
        <p:spPr>
          <a:xfrm>
            <a:off x="3124080" y="548640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bject 37"/>
          <p:cNvSpPr/>
          <p:nvPr/>
        </p:nvSpPr>
        <p:spPr>
          <a:xfrm>
            <a:off x="3352680" y="5410080"/>
            <a:ext cx="108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bject 32"/>
          <p:cNvSpPr/>
          <p:nvPr/>
        </p:nvSpPr>
        <p:spPr>
          <a:xfrm>
            <a:off x="4495680" y="5562720"/>
            <a:ext cx="106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object 41"/>
          <p:cNvSpPr/>
          <p:nvPr/>
        </p:nvSpPr>
        <p:spPr>
          <a:xfrm>
            <a:off x="5181480" y="5410080"/>
            <a:ext cx="576360" cy="432000"/>
          </a:xfrm>
          <a:custGeom>
            <a:avLst/>
            <a:gdLst>
              <a:gd name="textAreaLeft" fmla="*/ 0 w 576360"/>
              <a:gd name="textAreaRight" fmla="*/ 576720 w 57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object 38"/>
          <p:cNvSpPr/>
          <p:nvPr/>
        </p:nvSpPr>
        <p:spPr>
          <a:xfrm>
            <a:off x="6095880" y="5410080"/>
            <a:ext cx="2035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БРАЩЕНИЯ ДОСТИГНУ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0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стоматологического кабинет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152280" y="1143000"/>
          <a:ext cx="8763120" cy="4092480"/>
        </p:xfrm>
        <a:graphic>
          <a:graphicData uri="http://schemas.openxmlformats.org/drawingml/2006/table">
            <a:tbl>
              <a:tblPr/>
              <a:tblGrid>
                <a:gridCol w="3810240"/>
                <a:gridCol w="609480"/>
                <a:gridCol w="100800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353"/>
          <p:cNvSpPr/>
          <p:nvPr/>
        </p:nvSpPr>
        <p:spPr>
          <a:xfrm>
            <a:off x="190440" y="6167520"/>
            <a:ext cx="8686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355"/>
          <p:cNvSpPr/>
          <p:nvPr/>
        </p:nvSpPr>
        <p:spPr>
          <a:xfrm>
            <a:off x="4572000" y="2708280"/>
            <a:ext cx="4419720" cy="1752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если они состоят в штате медицинской организ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360"/>
          <p:cNvSpPr/>
          <p:nvPr/>
        </p:nvSpPr>
        <p:spPr>
          <a:xfrm>
            <a:off x="4600440" y="5486400"/>
            <a:ext cx="4391280" cy="53352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должна быть равна сумме строк 2+3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360"/>
          <p:cNvSpPr/>
          <p:nvPr/>
        </p:nvSpPr>
        <p:spPr>
          <a:xfrm>
            <a:off x="4600440" y="4548240"/>
            <a:ext cx="4419720" cy="8096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еятельность гигиенистов стоматологических указывае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700 (продолжение)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4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1520"/>
          <p:cNvSpPr/>
          <p:nvPr/>
        </p:nvSpPr>
        <p:spPr>
          <a:xfrm>
            <a:off x="152280" y="5181480"/>
            <a:ext cx="8763120" cy="1314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тысячах единиц с одним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1521"/>
          <p:cNvSpPr/>
          <p:nvPr/>
        </p:nvSpPr>
        <p:spPr>
          <a:xfrm>
            <a:off x="1828800" y="3124080"/>
            <a:ext cx="708660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1524"/>
          <p:cNvSpPr/>
          <p:nvPr/>
        </p:nvSpPr>
        <p:spPr>
          <a:xfrm>
            <a:off x="1752480" y="4302000"/>
            <a:ext cx="701064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ъем выполненных работ гигиенистами стоматологическим в УЕТах (графа 16) указы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1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врачей-стоматологов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3"/>
          <p:cNvSpPr/>
          <p:nvPr/>
        </p:nvSpPr>
        <p:spPr>
          <a:xfrm>
            <a:off x="4114800" y="30481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по графе 3 должна быть равна сумме посещений, указанных в таблице 2100 по сумме строк 86+87+89+90 и сумме граф 3+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85"/>
          <p:cNvSpPr/>
          <p:nvPr/>
        </p:nvSpPr>
        <p:spPr>
          <a:xfrm>
            <a:off x="4114800" y="51055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6 по графе 3 должна быть равна сумме посещений, указанных в таблице 2100 по сумме строк 86+87+89+90 и сумме граф 4+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586"/>
          <p:cNvSpPr/>
          <p:nvPr/>
        </p:nvSpPr>
        <p:spPr>
          <a:xfrm>
            <a:off x="4114800" y="3962520"/>
            <a:ext cx="4648320" cy="1066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умма строк 4+5 по графе 3 должна быть равна сумме посещений, указанных в таблице 2100 по сумме строк 86+87+89+90 и сумме граф 5+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орма № 025/у)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: основного, фонового, конкурирующего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, обследование, а также результаты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бследования и  динамического наблюден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895480" y="167616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ажаемые коллеги, необходимо внимательно проработать контроли,  в программе «Медстат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76320" y="1066680"/>
          <a:ext cx="8839080" cy="5732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1694"/>
          <p:cNvSpPr/>
          <p:nvPr/>
        </p:nvSpPr>
        <p:spPr>
          <a:xfrm>
            <a:off x="1924200" y="3343320"/>
            <a:ext cx="7010280" cy="4824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5 «приемного отделения» включены посещения приемного отделения к врачам различных специаль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1694"/>
          <p:cNvSpPr/>
          <p:nvPr/>
        </p:nvSpPr>
        <p:spPr>
          <a:xfrm>
            <a:off x="1924200" y="2765520"/>
            <a:ext cx="7010280" cy="50148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0 «по паллиативной медицинской помощи» включаются посещени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1698"/>
          <p:cNvSpPr/>
          <p:nvPr/>
        </p:nvSpPr>
        <p:spPr>
          <a:xfrm>
            <a:off x="1914480" y="3902040"/>
            <a:ext cx="7010280" cy="129852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3 вносятся посещения врачей-специалистов, оказывающих помощь в отделении (кабинете) неотложной медицинской помощи (при наличии его в структуре поликлиники медицинской организации), а также при оказании неотложной медицинской помощ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1698"/>
          <p:cNvSpPr/>
          <p:nvPr/>
        </p:nvSpPr>
        <p:spPr>
          <a:xfrm>
            <a:off x="1924200" y="5251320"/>
            <a:ext cx="7010280" cy="14925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4 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, а также при оказании паллиативной медицинской помощи патронажными службами на дому. Посещения указываю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1698"/>
          <p:cNvSpPr/>
          <p:nvPr/>
        </p:nvSpPr>
        <p:spPr>
          <a:xfrm>
            <a:off x="504720" y="752400"/>
            <a:ext cx="8382240" cy="1762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 строке 123 - В соответствии с приказом МЗ РФ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15 мая 2012 г. № 543н «Положение об организации оказания первичной медико-санитарной помощи взрослому населению» и приложением №5 «Правила организации деятельности отделения (кабинета) неотложной медицинской помощи» - оказание неотложной медицинской помощи лицам, обратившимся с признаками неотложных состояний, может осуществляться в амбулаторных условиях или на дому при вызове медицинского работни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1698"/>
          <p:cNvSpPr/>
          <p:nvPr/>
        </p:nvSpPr>
        <p:spPr>
          <a:xfrm>
            <a:off x="533520" y="2619360"/>
            <a:ext cx="8381880" cy="4095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строке 124 - В соответствии с приказом МЗ РФ от 14.04.2015 №187н «Об утверждении Порядка оказания паллиативной медицинской помощи взрослому населению» и в соответствии с приложениями 1-6, 10-12 к настоящему Порядку - паллиативная медицинская помощь в амбулаторных условиях оказывается в кабинетах паллиативной медицинской помощи и выездными патронажными службами паллиативной медицинской помощи, созданными в медицинских организациях (в том числе в хосписах) на основе взаимодействия врачей-терапевтов, врачей-терапевтов участковых, врачей общей практики (семейных врачей), врачей по паллиативной медицинской помощи, иных врачей-специалистов и медицинских работни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риказом МЗ РФ от 14.04.2015 №193н «Об утверждении Порядка оказания паллиативной медицинской помощи детям» оказание паллиативной медицинской помощи детям осуществляется: врачами-педиатрами участковыми, врачами общей практики (семейными врачами), врачами-педиатрами, врачами по паллиативной медицинской помощи, прошедшими обучение по дополнительным профессиональным программам повышения квалификации) по вопросам оказания паллиативной медицинской помощи детя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697"/>
          <p:cNvSpPr/>
          <p:nvPr/>
        </p:nvSpPr>
        <p:spPr>
          <a:xfrm>
            <a:off x="7236000" y="285840"/>
            <a:ext cx="1677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ол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10"/>
          <p:cNvSpPr/>
          <p:nvPr/>
        </p:nvSpPr>
        <p:spPr>
          <a:xfrm>
            <a:off x="4211640" y="2590920"/>
            <a:ext cx="4343400" cy="45972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Добавлены стр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10"/>
          <p:cNvSpPr/>
          <p:nvPr/>
        </p:nvSpPr>
        <p:spPr>
          <a:xfrm>
            <a:off x="4211640" y="3267000"/>
            <a:ext cx="4343400" cy="119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ядок остается прежним: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Указываются посещения по вспомогательных подразделений только в случае «ведения» паци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915"/>
          <p:cNvSpPr/>
          <p:nvPr/>
        </p:nvSpPr>
        <p:spPr>
          <a:xfrm>
            <a:off x="3895560" y="4876920"/>
            <a:ext cx="5029200" cy="16462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  <a:ea typeface="Arial"/>
              </a:rPr>
              <a:t>По стр.125 графы «По поводу заболевания» не заполняю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Основные функции: Разработка развивающих и психокоррекционных программ по восстановлению здоровья больных и  проведение психодиагностических исследован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Rectangle 915"/>
          <p:cNvSpPr/>
          <p:nvPr/>
        </p:nvSpPr>
        <p:spPr>
          <a:xfrm>
            <a:off x="1676520" y="2209680"/>
            <a:ext cx="6933960" cy="4267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стр.125 «Психологи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заполняется на основан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журнала ежедневного учета психологических консультац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торый включает в себя следующие пункт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ервич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овтор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консультаций по видам психологической помощ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отдельно выделяются графы по учету консультаций, проводимых в стационаре ил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в амбулаторно-поликлиническом учреждени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урнал ведется ежеднев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76320" y="1066680"/>
          <a:ext cx="8839080" cy="4600800"/>
        </p:xfrm>
        <a:graphic>
          <a:graphicData uri="http://schemas.openxmlformats.org/drawingml/2006/table">
            <a:tbl>
              <a:tblPr/>
              <a:tblGrid>
                <a:gridCol w="1295280"/>
                <a:gridCol w="457200"/>
                <a:gridCol w="685800"/>
                <a:gridCol w="762120"/>
                <a:gridCol w="990360"/>
                <a:gridCol w="533520"/>
                <a:gridCol w="533520"/>
                <a:gridCol w="45720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частковые 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42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иатры городские, рай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5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90"/>
          <p:cNvSpPr/>
          <p:nvPr/>
        </p:nvSpPr>
        <p:spPr>
          <a:xfrm>
            <a:off x="5334120" y="3200400"/>
            <a:ext cx="175248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91"/>
          <p:cNvSpPr/>
          <p:nvPr/>
        </p:nvSpPr>
        <p:spPr>
          <a:xfrm>
            <a:off x="7162920" y="3200400"/>
            <a:ext cx="167616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92"/>
          <p:cNvSpPr/>
          <p:nvPr/>
        </p:nvSpPr>
        <p:spPr>
          <a:xfrm>
            <a:off x="5334120" y="4572000"/>
            <a:ext cx="358128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стр. 45 – 46 – 47 по гр. 4 должна быть больше гр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93"/>
          <p:cNvSpPr/>
          <p:nvPr/>
        </p:nvSpPr>
        <p:spPr>
          <a:xfrm>
            <a:off x="5334120" y="5257800"/>
            <a:ext cx="3504960" cy="33732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т.д.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94"/>
          <p:cNvSpPr/>
          <p:nvPr/>
        </p:nvSpPr>
        <p:spPr>
          <a:xfrm>
            <a:off x="152280" y="5715000"/>
            <a:ext cx="8763120" cy="5806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96"/>
          <p:cNvSpPr/>
          <p:nvPr/>
        </p:nvSpPr>
        <p:spPr>
          <a:xfrm>
            <a:off x="3276720" y="3657600"/>
            <a:ext cx="198108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Наприм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3: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5000-4200-400=400 </a:t>
            </a: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4800-3900-370=530   т.е. гр. 3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&lt;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. 4       ОШИБКА!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94"/>
          <p:cNvSpPr/>
          <p:nvPr/>
        </p:nvSpPr>
        <p:spPr>
          <a:xfrm>
            <a:off x="152280" y="5667480"/>
            <a:ext cx="876312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1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84" name=""/>
          <p:cNvGraphicFramePr/>
          <p:nvPr/>
        </p:nvGraphicFramePr>
        <p:xfrm>
          <a:off x="152280" y="914400"/>
          <a:ext cx="8763120" cy="403848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54040"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нутриформенный контрол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4 = сумме строк 4.2+4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628"/>
          <p:cNvSpPr/>
          <p:nvPr/>
        </p:nvSpPr>
        <p:spPr>
          <a:xfrm>
            <a:off x="6172200" y="1219320"/>
            <a:ext cx="2724120" cy="20541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(кабинетов) неотложной медицинской помощи, включая пункты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2"/>
          <p:cNvSpPr/>
          <p:nvPr/>
        </p:nvSpPr>
        <p:spPr>
          <a:xfrm>
            <a:off x="152280" y="4724280"/>
            <a:ext cx="8744040" cy="1935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е 1 таблицы 210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38840" algn="just">
              <a:lnSpc>
                <a:spcPct val="100000"/>
              </a:lnSpc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ещения к зубным врачам и гигиенистам стоматологическими в таблиц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не включаютс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чет деятельности ведется в таблице 27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152280" y="838080"/>
          <a:ext cx="8763120" cy="56818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703"/>
          <p:cNvSpPr/>
          <p:nvPr/>
        </p:nvSpPr>
        <p:spPr>
          <a:xfrm>
            <a:off x="4495680" y="2666880"/>
            <a:ext cx="4419720" cy="22860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. Также наличие передвижных подразделений и количество выездов  должно быть отображено в таблице 10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classuser</cp:lastModifiedBy>
  <cp:lastPrinted>2018-11-07T07:41:24Z</cp:lastPrinted>
  <dcterms:modified xsi:type="dcterms:W3CDTF">2019-12-08T11:35:56Z</dcterms:modified>
  <cp:revision>6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